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793-09C0-4898-9DAD-F91D8AE9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52F-E6A7-4D2E-BB5B-D10FB57F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F3C40-5A38-40A5-9457-FB471AC0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9AF3B-212A-463A-A5B9-1AFDB944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86C4D-854D-402C-9FE1-89B5FAB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12954-8B7C-4146-8501-AB167AA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B3FB6-7C32-4CAF-BE6F-C10CADF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A58F2-F7AB-4523-AD18-0FCDDC5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43691-CBC0-4BAA-B975-03F614D6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D6E5B-806A-4349-B5C3-5EA5E633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E48DF-71FD-42AA-BF66-567890A7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BD500-7922-4B64-8918-F858A350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F2E-0ED9-4185-9A7A-6FA1215D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8D1BF-50B1-4F47-87F3-4F7189B4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B7E1D-2197-4E07-99AE-A9E69378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997CA-26E7-412C-9AD3-1D865701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CB7DA-E15B-4969-B8AF-B410DF49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9C9BB-6287-4F8A-9FA0-17F1FA59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66327-7867-4838-83D3-7EF62372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24F5C-7619-48E3-8C8F-585DD43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293F1-6599-419D-A603-3B4FC3B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91FB9-544E-4FDC-A69F-046DEFEF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CDE35-5C88-4B21-8AA7-C12F251C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2FC-4684-4B50-9C03-1CCF07F4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6CD6F-1064-431B-AB91-7F22E955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CCBF8-B718-4605-9625-6C6C97C7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CFC65-2336-40E5-86C5-BE7DA8C7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5DA76-6D26-412B-A9AF-3DCB4A06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F7AE8-906A-40D4-BF21-5B8A7D8E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103A1-4185-4FC0-B8CC-688E3389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9A6B3-0C37-4266-82EB-B315C8A0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C5A8E-97C6-4BA9-9F89-AB878D83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7878F-7F62-4232-8C20-C2AF029C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21F53-7B45-4923-B732-E797DA7B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85BE-88B5-47A3-A9AA-47DBD0CF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287B9-4F77-488E-9CA2-8A451128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DADA8-B7A0-4E4C-9C8D-0BF10FEE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26733-E9B7-438F-8022-E920A839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0C5E9-83CD-4041-869F-A092A30D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4159C-12C9-42DA-B6DD-959DDAAD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FF5F9-6CD7-41EA-B39F-8C0DCE3B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174E9-16A5-4CA6-A250-42A65A21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5CA29-35B6-4261-BF91-6CC5E2C6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67D64-F8DA-48C0-8236-41C54147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FD7AE-1B5E-424F-A379-2BCDCC69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0E29-B56E-4E03-A89C-2E5E5B15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A8F66-14DF-4B42-9D28-1B6D121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6E690-F3A5-421A-BDFE-913CEAE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7365C-D55F-4485-8F35-A2C0C287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BD0BC-E0E7-48B4-AF3B-97927A5A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6619A-1DCB-4384-97D2-7C18EC08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560EC-379F-4E4D-96D7-77A525BD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6D7D9-CE88-43A7-99ED-EA533387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3601C-7B85-4F42-BEBB-23BFEBCB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79C18-54FB-4E9E-B919-7B222A94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10CDA-E9C3-4811-BD32-7491192A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BB10-727C-4A2E-B260-09105CF8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501FC-83F4-43A8-A064-CDF8D0D5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4CAC3-218D-416C-81A1-29E11A72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C0173-0281-4A41-8CF7-78FE9C91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C04AD-4B8F-4130-A6D6-E49E070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7E91A-3263-410A-A422-FA264F2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089EC-83F6-4575-97B8-98DE0D1D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7B2FB-D7A4-4959-9522-DDE06F7E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AA152-A67B-4FF3-AC6B-359E88C8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735F1-3352-4627-9E2A-19740232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183EE-A987-4564-BFB7-3B2FFD41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F2FC-31B7-4E58-A566-28697D2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656C8-8AE7-42E7-B847-D8503F61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185B8-A4DE-4CFB-8A13-BFCF1565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07DC8-2821-464F-B193-C0C5ABAA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D98F0-5BCF-44D1-944A-9B518FAA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4A2B2-C283-4789-8BC0-DC2D7D7F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F6A0D-26F6-43F5-AE63-D6C5FCF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6D21C-7B58-47A3-8464-AF27D97F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C16DC-4AF1-4683-8291-61077F16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8BE1B-8609-464D-A8EE-DBABD137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7A066-E883-4B13-A05D-F2797A00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7E38-7081-4BDF-BCDC-798CA132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8DCAE-405F-4B64-B2EC-5AE5F087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65C48-40DD-4978-81E6-2C6AE336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251ED-7069-4D6E-B112-ABA56AC6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FCF35-9105-4139-912B-3C3EF40A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EBCF4-54DB-4CE9-86FD-12C97414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C37B8-C063-45C6-8ECB-3034D4E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09755-3418-4FFE-B611-97253E04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376DE-1004-4BE5-BF56-B0E52E8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37D95-1076-4563-85AF-30A1443A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3702E-F2DB-4E01-AEF7-4AE11971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1DEE-AC56-4255-A1E5-B4A9529F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7526C-F709-4566-B843-D9915C0F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10FDE-796B-42E7-91A0-F82356A6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2752D-5032-4367-86AC-B11FBBA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8E6788-3D34-41B8-B914-34CC0794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3D53D-A151-400D-853C-D9A68DB8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C4EB8-D0A7-43E5-B479-32A5AD36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5AEEC-8D26-41A3-A03B-89FFB47F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989B0-E5E2-4ED4-802B-B7BCCF84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AE1BF-2227-42F8-B4CD-93D2BD2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6F38B-E462-416B-B7EC-DE9A0118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E4D5-91B0-406F-91F3-67B9A38F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E51D9-F4EE-4F97-8F96-1C672309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42FAA-0D48-469B-8CF6-32A14835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3002A-04F9-4B19-8757-6DFE6055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A83A9-0D17-4060-9FA0-74212A2E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5378A-E1BE-4B0C-8F2E-34074370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F22AD-9AD1-4070-9893-06A10FE1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57AB5-9039-40E8-B699-4AB76430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B10A3-5779-498F-BEDF-49D66582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84FCB-BFE5-4763-A665-77E988B1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3A1D04-ECE6-4EC3-A3AD-554AD3A8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66C-5FBC-4142-BB25-C6474AA9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B66E-C2A3-4041-BF00-2998EE1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2E9C7-4F4D-4617-A885-6BFE8DE1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37A46-872E-4ECE-AAF1-5B71ED46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5C4C43-4937-4224-81B4-B58E3D37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F7FF5-DA96-4FCA-B192-CFAA7C00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B99A5-C64D-4993-9569-C915B1FB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386F9-3188-4D04-BABB-D7ADD152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63083-264C-4DAA-92A0-BFE871B0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5BDD1-894E-46E4-91D4-1FBBF36E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5F0DF-A782-4756-AA61-9093B81D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9D981-127E-4B52-9656-4573701B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E197-55E0-41C7-BD69-E592ABF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BD54A-E937-496F-9D6E-61A26F78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3E1B9-8510-4963-A18A-643F3475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BC7520-BCC8-4419-BC3A-0AF57055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14DFD-1AD5-42EC-ADDD-D0E40E3A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587B0-E1FE-477E-9E01-6155B4E1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9CE77-B003-4C4D-8BA5-DD025C2F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12300-F929-490E-9B8D-1698E515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159F70-495F-43E6-85DF-F1D9190F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FBE02F-26CD-4153-BAAA-42A6E144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B63204-06E6-46B1-807A-50D5479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526F-0488-4578-B14E-6E47207B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83DE3-0FE6-4D63-A7AA-79543034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9DC7D3-6C02-4C2F-A1AB-17DB6F27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227A1-FD30-43E0-8450-7A3D9952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F3F3C-9130-4331-A981-C57A90D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AEE82A-2725-4199-A601-F7C58A0F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7419A-1BC9-4B79-A881-3CEB3B0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18D35-3EAB-4DFD-9CD4-6B7BB5BB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55E34-35B6-4023-8A0F-B0BE4D7F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8885E-4275-43AC-B2DB-8FF3F5ED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C9795D-68A8-4221-9DAD-CE0E81B1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57F3-819B-4119-9A02-2BF70E77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F0E42-CD8F-45A2-A31D-C5B16411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B7B38-F403-4358-A00E-7EADF97C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8962C-A77F-4DA7-ADC1-39C6F500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04A1B-1A41-4B1B-A3AD-D7046962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10B09C-F944-4735-A8E2-431BD27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DC0F1-2097-43E1-ADE8-3B7C3A8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0483A-2F0D-423D-BBBE-C126A0C1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B8973-3EF2-4885-95FD-73B7CF00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38323-A70B-4B44-9473-858DA5E3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D9ADA8-6F52-412B-B8BA-890CCAE1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B2FC-6A4C-4F9D-BBDF-6FBDE947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9B18D5-DDFB-4AB9-8594-5EECA798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204654-2A08-42A6-BDE0-3CFE020D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FD3B7-4CB2-495F-9E2C-2464CCE1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954EC-061A-4764-92C6-DE328D50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93886D-4935-4943-9483-07CF0C91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4A659C-B7B2-4869-BDC5-F486B867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3E6049-6E9C-45B6-BB34-8E5CD22A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ECE02-4B96-44E3-BFBD-CEF9D4DD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1DCFCD-6A0D-435C-B516-62E4B8BD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8862D9-3736-4437-9EAA-47DABA9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13BC7-F701-4A61-88EE-71C872D9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1A73F-80EF-45DA-AABD-768045FD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BC7C7-E519-4F43-9718-A0A0BF35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50B1B-BF58-4AA2-8D09-C3BBF183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BBD4-0EEE-4C5C-8E26-A00929E7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B268-7432-4B66-B6B5-EC70C761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C390-F4FB-4D30-979E-F1529721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EE769-E150-447B-BE63-AF8E8D70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F8D-57FC-48A7-BF1B-FD588FE4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391F-7B29-48CE-AE30-1CC6C0BC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514A-8278-48F7-8F2E-F7667CCB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4422-2281-46DE-A558-950FB0A4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1759-0AC7-40C4-984A-4615E40C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65A9-A047-46B5-AF61-CDA2750D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2893-A00C-43AC-A234-2D00E686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5972-0238-46BC-A55B-5822CA96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DE4B0-8CDB-4E24-A52C-FC08FF0D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1D013-E5DA-46B8-809D-2B49BCD1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0DA6-4E4E-4BB5-BE07-25EE7962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C7D-F330-461C-91F6-9F9CA719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C1C9-079A-4B78-9CF4-996CE6A1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E500-F8A0-4637-A039-42524421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F6FE-868F-4E7C-9F02-0C1BEC57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E750A-8C0E-4BF1-BE72-C8A23B6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465A8-5D8F-4807-A9B4-60BE29D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3F72-7DF3-434D-ACCB-BFBD184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95A9-A9C0-44AD-AAF3-032EA2C4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C1C3-8BEF-4C47-96FD-C421EC64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E9DE-D032-4798-8974-CD2FA8F8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0C4D-2844-434F-8F45-D63C3DF5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5C4-5E97-4F8F-8073-EBCFEAF8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C01E-92A9-4CE1-B1DB-07E45B7C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9EF3-513D-44F5-BDA8-3FE755B2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F8FC9-3129-4348-AC91-19E2B004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5BDBB-3B99-4B7D-B049-E4E97DF8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2B3D-F81D-4CBE-83EF-EC2DFAD3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5EA1C-013C-4265-8B1C-6BD5CE0E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0411-75CA-4D39-940B-7A8E595B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2C88-06C3-401E-A98C-5F92274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711C2-21BB-4A61-9EC2-380414D2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FA926-C641-4981-BE4A-2D4FF171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A42-9311-44A9-BB46-401E3676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8B8E-BCA6-4CAB-AD3C-674C86EC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595F9-8969-40EA-8964-8D4236E6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B0FB9-BD75-4575-82B4-A5D44BB5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0407-E6AD-4D76-A415-DCDC0C45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6D74-C738-4540-9062-F138196D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DBDB6-EE69-4461-9236-839C0032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692F-21E7-4CA6-9AAE-BCA262C3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92719-91BE-432A-9306-89008EF6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A142C-9E51-4986-B5AA-039AED25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15E5-02DF-40B7-BA7F-0AA0B3EA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534-E52D-471C-B14F-6961EE67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4BA5B-7902-469F-B1AA-36EFC8CC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0BFF-543B-4857-A79C-99F97A74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A36DE-AF49-440D-A785-1DA7949B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96B0-E6B2-4644-9E4F-DC5AE8E7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ECA10-997D-4135-BABF-33B89B4C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E1332-469E-4357-96EC-A0227BD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A89F-6D35-4EA3-852A-9904FB30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2274-5EB4-498B-B682-C49521F5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3E414-44C8-45DF-B3B7-6B7D24CE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7650C-5220-462A-A138-E9838DF3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105-8183-4AC7-B47B-CC460A4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FD08-7F8D-45D3-B3E2-A83C139D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99565-6340-456D-932F-A4606CD1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812E-5F29-4A5C-BE9A-95685394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8F13B-397B-446F-AC2E-8F83868B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51BE1-6D32-46FB-A84A-DBEAAB16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2730C-066A-4CF5-8054-5AC8F074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CB415-9875-4443-B46E-67A016EA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BDAA5-28B7-4838-A341-6226177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6D06F-0502-4717-9673-FE80757A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790E7-1BDA-446F-B20D-5A628A2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647-4C38-41AE-9A29-DE03DD6A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6FAA9-30F5-4620-89BA-F529C658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ECA51-CA7B-48CD-91BA-33F6ADA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0BB44-97A4-483C-B1C4-8AEF5BD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0DA1A-BEAF-4EC6-B56E-5B417CD8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C201-72C4-4E91-9AB8-21937A49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2F969-6DDE-405A-8C78-A2EFB976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954FC-9D7F-4D59-A577-5273BC8D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8F562-957F-4AC6-81B5-6B858C87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387C6-A1D2-48AF-BA7A-535CD167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05540-C9E1-4D3C-A4BE-A64F032A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FFCA-6BB8-41C7-96E3-DA7D573D2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39A5-D219-4FC6-BC43-3EE0D3A34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8DD2-E6C7-440E-BDB1-4E508A00F4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5B8B-E810-4D13-8CFF-5CD5A1C03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FDEC-2478-4D48-AFE9-0186F93032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599A-7BD8-4FC6-8204-F5CCB4A5B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3F88-03AF-4164-9629-04D11F817B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F117-C1F0-4C07-8A5B-D112F602F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6BFB-1B7E-4A8C-BB30-CE1EB0C4D8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C04-0A48-4CF2-91C6-6192D18C9E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317A-9367-45BE-928E-9470B72D60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7DF8-9CB6-4F72-868A-52455DB979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D84D-AD44-472C-97AA-BC63F7D98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3BE5-8261-4302-AE4C-D14C804C4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9025-05F7-4668-A3AF-F79DFA83F7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CA68-770A-4CC1-B588-E1542DDE01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E37A-E179-4083-AB85-DAE99F60B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722A-B648-4DBF-B2D4-5273FAE954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8F53-40F4-4D6D-ABFC-A6518EC6D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7E20-C461-4EC1-BCBA-FAED0F842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65A4-368B-48A5-8117-C98FB8DD51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0DA9-53C4-4885-A343-8C8A63263A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2B71-F22A-4675-A4FA-00E9F89FC4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BB3F-E64E-4C93-B0D2-0EC30DA00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9BBC-F7BC-4D2C-8DC1-62DDDA0BB2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770E-71B7-449C-939D-55E05DF0E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8E1-1B99-4C21-9D14-BB1594A6FC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4781-04C6-48ED-8F49-F2A3B6585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CBBE-6A48-4C72-97DD-05A7E77A08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A469-68D8-459B-8531-AB92961C5B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E833-E32D-4EEF-85E8-7E6019A169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2239-AE71-4D26-9516-4324108E56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A1D3-9E86-4844-95CF-1BFC498CD5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C1E6-48F2-4EAB-851A-9188E11AAF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29D5-FFD3-42B6-B370-8DC8BAAE98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3EDA-0B82-4388-B67D-C88921D72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8440-6286-4749-8341-470BED6AF4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DD29-186D-4DAC-AB55-750392FA55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A9EC-0E22-4870-9722-19D0596A0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3373-AF4E-468C-9E07-8F3E62C58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990720" y="3081240"/>
            <a:ext cx="71625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38040" y="1104840"/>
            <a:ext cx="8467920" cy="5181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14240" y="271476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14240" y="4508640"/>
            <a:ext cx="5432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299880" y="852480"/>
            <a:ext cx="8544240" cy="26478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2"/>
          <a:stretch/>
        </p:blipFill>
        <p:spPr>
          <a:xfrm>
            <a:off x="1643040" y="3571920"/>
            <a:ext cx="3152880" cy="1886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3"/>
          <a:stretch/>
        </p:blipFill>
        <p:spPr>
          <a:xfrm>
            <a:off x="5429160" y="3929040"/>
            <a:ext cx="3476880" cy="2638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4"/>
          <a:stretch/>
        </p:blipFill>
        <p:spPr>
          <a:xfrm>
            <a:off x="750960" y="7858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5"/>
          <a:stretch/>
        </p:blipFill>
        <p:spPr>
          <a:xfrm>
            <a:off x="714240" y="264312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314280" y="1147680"/>
            <a:ext cx="8515440" cy="4562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5286240" y="1071720"/>
            <a:ext cx="3214800" cy="6951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2000160" y="2082960"/>
            <a:ext cx="1500120" cy="392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3071880" y="2992320"/>
            <a:ext cx="1214280" cy="392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5"/>
          <a:stretch/>
        </p:blipFill>
        <p:spPr>
          <a:xfrm>
            <a:off x="3235320" y="3909960"/>
            <a:ext cx="1000080" cy="393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6"/>
          <a:stretch/>
        </p:blipFill>
        <p:spPr>
          <a:xfrm>
            <a:off x="3786120" y="4363920"/>
            <a:ext cx="1357560" cy="392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7"/>
          <a:stretch/>
        </p:blipFill>
        <p:spPr>
          <a:xfrm>
            <a:off x="3643200" y="5267160"/>
            <a:ext cx="13575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333360" y="1467000"/>
            <a:ext cx="8477280" cy="3924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2786040" y="3112920"/>
            <a:ext cx="1000080" cy="393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5286240" y="3552840"/>
            <a:ext cx="1357560" cy="393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6429240" y="4021200"/>
            <a:ext cx="1143000" cy="393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5"/>
          <a:stretch/>
        </p:blipFill>
        <p:spPr>
          <a:xfrm>
            <a:off x="3857760" y="4929120"/>
            <a:ext cx="13572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324000" y="905040"/>
            <a:ext cx="84960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309600" y="847800"/>
            <a:ext cx="8524800" cy="5867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285840" y="352116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285840" y="444348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285840" y="533232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285840" y="6240600"/>
            <a:ext cx="8775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420040" cy="1457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2"/>
          <a:stretch/>
        </p:blipFill>
        <p:spPr>
          <a:xfrm>
            <a:off x="285840" y="130644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285840" y="1765440"/>
            <a:ext cx="8775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6:16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